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EFB-81A4-42AA-8846-518142C8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B6D-D4A5-4210-9DD5-72D8201C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1A6-3F57-49E8-9E5C-CD3C2867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686-D9E5-4092-BC17-7206B0F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50B-D59C-4BB7-99A6-D78E6CBD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AD4-2E3C-4958-B91A-07CFADBA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5DF-C433-42DB-911A-0D6584F5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3D4-4281-4A39-A762-4A56BC8E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65B-6985-49E7-BFE5-EFCD763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B84-C84D-4762-82EA-C240F1B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6A6-67E1-484D-8B77-E5772F9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D9C-2F33-4606-9E36-50BCCC5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9F17-C3DA-45B6-B42E-D4E26C9F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8136000" cy="71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your books, answer the following questions, in English under the title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asas a ven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question and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the biggest in terms of si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a ga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the most bedroo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does not have airconditioning and how do you say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probably has the best transport links? How do you know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apparently light with excellent vie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has been refurnish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is in the centre of 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type of housing are all 3 of the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is C more expensive than B, despite being smaller and having less bedroo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35:28Z</dcterms:created>
  <dc:creator>Owner1</dc:creator>
  <dc:description/>
  <dc:language>en-US</dc:language>
  <cp:lastModifiedBy>Owner1</cp:lastModifiedBy>
  <dcterms:modified xsi:type="dcterms:W3CDTF">2008-11-25T17:33:31Z</dcterms:modified>
  <cp:revision>3</cp:revision>
  <dc:subject/>
  <dc:title>Slide 1</dc:title>
</cp:coreProperties>
</file>